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B46FE322-9C2C-4284-892E-D2E0E14FF2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7D3207CE-27AF-4A46-B93B-96255080945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4A00EF95-1E74-44BD-9849-DD96D13D8A5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26A0F6D7-ACF0-4768-ABAA-F48A8BBECB7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80B4B596-A75F-4D63-A16F-325D06BEC7D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1CEA18F3-173C-4693-A4C6-310229F9507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938AE383-2320-49FB-B86D-A36E3155ACD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5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6D038F34-C8F0-4DF2-8481-AE2E1414B26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409BC7AF-39B6-4CEF-8A70-1C9E4C9169B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7FAA363B-CCF3-43EB-A1BF-3681620EE82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C66-CF4A-454A-9C28-6D5B5CFC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E55-60A9-4B29-B80E-74D87AB3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F599B-84FD-4E47-897E-463709A3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3387-780D-4258-9F8E-7AEDCA36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65C38-5868-4228-9ADC-40E92A1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06A34-438E-4C52-BCC9-60087BC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CBF0-6EF0-422D-BA37-8569444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09F9-583D-4A51-95A2-80A190C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A1285-F424-4BF6-AACE-34B539A7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9CD50-D253-49D9-B7D1-45FC422C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4CFA7-91B3-41D4-B7D2-5376C350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9C86D-BEAF-4F49-917E-FA0A0061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7A3-83DC-4630-B42B-4D7E6DA5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FD3CA-3F57-4581-9ACD-AA3A466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24D7D-2434-4E5F-929A-65E786F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ADF1A-9E0D-4283-997A-8D726CD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0519-3DC0-4E93-9D0A-7DFAF776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1A91-56AB-425B-99FD-911C07C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6759C-60DE-4C58-8951-D91DF6EC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FF1F0-B77A-488E-A3ED-9DBB0A6C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BE4DC-4C51-48AA-B25E-A380B62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A22D-D60B-4BBF-A4BD-03078C2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A8018-C71D-465A-BE4B-183F74E0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FBE-55AF-4FBD-9D19-1D0C6105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DA0F8-B32E-41E8-999F-88F9799D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7F1B9-947E-4AD6-B355-A73E77A3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D5CBC-2EAE-44A5-BE60-3CDD524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ECB5-6285-41AE-9281-3323FBA9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996F7-906D-423B-BB2E-145BEA6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7AA7-6ACA-4254-BD4A-BD69A8C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48736-5F97-4C38-B194-2FFE57DF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2210B-8ACE-42BB-9E67-79110E5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EF291-0FEB-4A74-9945-3FAB5B69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D106C-9D71-46AF-97F8-A4BDCBC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CE5-080F-4A53-AA80-C42EC17F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029D4-65AC-4D93-AD81-EBE0DB4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5E344-31C1-4CDC-BDE4-8E8333A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94D04-0AE3-4C0E-BF4E-21F0520C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E872D-7FA7-4A88-B911-1A2370E6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8D5FD-B25A-4DDE-A275-8E61E5E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7A62-A247-4BB6-93BA-CD1D038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8DCF-E75B-4813-822F-BBE041B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C1D42-A3D1-4698-BDDA-EAF557E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B6013-3CA5-48C4-BB52-87585B5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72B84-2B84-4E90-8953-8125C11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2152-483A-4BC2-872F-1099CB65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9BFF7-638C-45A8-9688-F40E2FC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34C22-8938-4467-9E7D-A8BE240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14EA3-E43B-4A3A-91CE-04AD38A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E5B8F-AFF9-42D5-8A5B-DE9DE7A8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21385-F9A9-459A-B092-EC456805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A84E-F651-434D-B230-35E4AB79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4D99-A99D-4AF0-A212-76E0964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52E2-11C7-4BD2-A5B6-40B8BC42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9BF-521B-4530-86F9-E2564CD5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299F-7891-4484-B648-F6637C5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B10-3F15-4BAC-B238-37521DC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7AF6-BABC-4694-A659-B962CB8B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ABE-DCE0-464F-82C9-2A8C2D0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5524-D164-4FD1-85D4-1EDA3AD9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7BF-921D-4133-9DD5-EAD56ED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33F7-8469-4B14-B316-723E357D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B193-7CDF-4B12-9695-FEDEE19B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CF31-8CA6-4560-B099-94726A94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18A8-A9B0-4F45-8103-5CCAC84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51D5-11DC-4AFE-A6CE-B952E6A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1FB1-1240-41F2-A181-A8F748D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4A0-8B3C-4B75-9D5C-2131D81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04FC-CB7E-4F30-8476-6FC8072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A545-BDBF-4C99-A0AB-9555928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EF3D-4A89-4BF3-A7AA-9F8B230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306A-15A2-45F7-A3EB-B8D4666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B0A2-9ADD-4FEE-88D7-565BC71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C1C2-F362-4E06-837A-F998607D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A9B4-017F-4012-85AB-FD441A3D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99F0-F481-4819-97A5-271C18C8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552E-16DA-4500-893A-FFD90D04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AC1D-6766-4758-B1CA-5A54CA80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773-6696-440F-AB79-EE8AFC78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568D-968C-4EE5-B4BC-58776AC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A25C-58AB-4862-845B-9BD5199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E283-C847-4216-93E3-0D92C002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DE64-DF7B-4631-9E1F-FE78164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234D-7DBA-43FF-8210-84F0AD5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15D9-D99F-464D-8B48-9B5D1E2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A1D3-9E32-4255-9094-932DCF59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F7ED-A01D-43F7-9EA3-F8F33950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753F-FAD7-440C-B1CE-EED895BA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F403-075C-4AD3-B79A-09B5D713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80F-9B2E-4676-B634-424F2CCD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E65B2-DB64-44BB-9934-080D6BCE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B98CA-F39E-40DE-AB25-A1061AFA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DF68-FCCF-4FB9-9F04-CFB2955B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650A-CD96-467E-AA77-A4BC6D16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E98B-1054-4F7C-A0AF-1E5298F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0402-DB91-4ECD-B73F-1CB7AE8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65B1-F079-4BDB-B583-D906D34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C0F0-7BAF-4A02-9A0D-53CA8C5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F0A3-706C-4B0C-8760-C1C4E7C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3A79-6B11-4B34-B20A-435E972B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FE3-D20C-4C97-9300-093D8AF0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E908-7A41-4F0F-8722-9D6372AD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674D-9EF8-40AE-8FE8-CC98503F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187DD-34F2-4D80-9C42-F1A52987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284A9-27B8-4D97-94F2-A89371B9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46F5-BA1C-4E8A-B625-6D4DF24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50D5-9ED2-4524-A6DA-439FAD3B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1154-6D68-4061-8C31-822A702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651D3-B044-4FD6-A8FA-DE6F56B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3B6A-5964-46CE-8EE6-CA9B080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C0B0-2AA2-4531-B5AB-CE8DBD0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F55-5AFE-49B6-A526-95547DE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AB29-AFE7-4FC5-85E8-AE88AF4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34A8-AAB6-4E3E-A9BC-F25496A3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73A11-3B0C-40CC-8827-50D4BA06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C3E9-167C-4FF6-A2BA-F89DF5A1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5EEAE-387F-4687-8801-96BB8EAD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BDDA4-F66C-447C-8670-51BBB8D1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A317-6C28-4283-88A0-6D55BE5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FFFC-BB49-4BA4-9314-F1C8ADE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1B46-F9B6-46D3-8E94-670A473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AD8F-6028-4EA4-881D-1A02A0B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FA9-4E73-4BF5-B9DE-108979A7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1739-3612-45A3-A4B3-E857524F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3724-4B5E-420C-A5C2-946A2A0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CA4E7-38DC-47E7-B206-E1BB680A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7DFE-6D2C-4FBE-9A54-7D7E2BB2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8F63D-7B1D-40EB-A4D7-11E80FC2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8BE7A-13C9-409E-A4E4-92B2955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3686D-C3B8-48BB-8E59-592AB50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81C54-D42D-405E-BD26-D2450800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5F84-48C3-468D-860D-217D435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10C7-88E0-46E5-BB0F-E362034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685-B961-47E2-A75D-2114BE2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B558E-7304-4D2E-BB16-896222A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4DD4-0AE7-48E8-A49B-E7BC864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BA43-3E23-40D0-9944-BCC4FB6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292D-F882-445E-A72B-E8D0DEFA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C400-9CE2-4CBE-9092-324A3C05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FB4B-25B5-47D0-B5FD-174C78E9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B00D2-37A0-4C3A-842C-F2CCC9F8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AB3B7-719C-48A7-BFD2-B44D22E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1843F-6C3F-4BDB-96D5-FA7EDB6B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8F946-FE3D-4F78-8CDF-421619E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39B7D3-1EE3-4C66-BC54-2368DA8689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AD6616-9BFB-4649-9D56-268DEBB39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7CD477-92CA-4B2E-A2C7-944662116F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CDE2DF-14AE-4758-A88D-BDD8A07C2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551D71-92A2-48A2-B65C-832E98DFC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808230-11BA-4DC8-B168-602B5B053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769FE8-2CEB-4AEF-8764-84A3A1802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EF539A-4524-46BE-8271-425A3F9A8B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8BA3D-A943-4F66-8F84-A300238FF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74684A-46DD-4F8B-81F3-A0F136E354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04CC0B-B026-41DA-8352-C0B59C72A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CE5D4C-D517-4619-B870-62031C56B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962000" y="2103480"/>
            <a:ext cx="62172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God Rest You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Merry Gentlemen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1567440" y="1417680"/>
            <a:ext cx="70218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God rest you merry Gentleme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et nothing you dism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emember Christ our Savio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as born on Christmas d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o save us all from Satan’s pow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en we were gone astr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2197440" y="1417680"/>
            <a:ext cx="576144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n Bethlehem, in Jewr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is blessed Babe was b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laid within a mang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 on this blessed m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which His mother Mar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id nothing take in sc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649160" y="1417680"/>
            <a:ext cx="685872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rom God, our heavenly Fat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 blessed angel c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unto certain shepherd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rought tidings of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ow that in Bethlehem was b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Son of God by n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439280" y="1417680"/>
            <a:ext cx="727812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shepherds at those tidings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ejoiced much in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left their flocks a feed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n tempest, storm and w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went to Bethlehem strait-wa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Son of God to f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cwade</cp:lastModifiedBy>
  <dcterms:modified xsi:type="dcterms:W3CDTF">2015-12-05T17:10:36Z</dcterms:modified>
  <cp:revision>1577</cp:revision>
  <dc:subject/>
  <dc:title>Slide 1</dc:title>
</cp:coreProperties>
</file>